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dt" idx="8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 type="ftr" idx="8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 type="sldNum" idx="8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8CB1-ECF5-44C1-913B-B21EFFF797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A217-BC4C-4456-86C3-8D15903A2128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7A3-6EBE-4820-BCC9-F5E95900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038-70AB-4257-B38D-1A64B6D1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D7BE6-A9AD-423D-A6AA-AD15FA29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EE504-DDA2-4011-AE51-0B6C43DA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1E909-720A-4C35-B060-3CA23DE7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A57BA-B103-4404-BB19-4C1C006F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7D8AA-DE30-4D41-9243-1702F754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ABA36-D72B-421C-A4B2-5C8144B1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C4B73-B07A-477E-90DB-A699FF59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9061B-403B-4546-BDB9-3AAB30C5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C4F72-8D89-4F27-AD62-48C3B34D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3D75A-9E14-41D8-9674-45B925C9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C776-8DFC-4176-82C3-0E2C6F06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4A738-F78B-4CB7-8452-838113B9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B0743-92D4-4960-984F-FE440E7E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8B3E4-AD47-418B-8563-98A6BDA2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EB57F-1B8E-4E84-B61F-F62AEAAB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BA198-7060-46FE-AF57-ACFB5C7F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1AEE4-730F-4F0E-BD86-81C25D3C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82DF4-6270-48D8-8623-AF9216E0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EEF8A-14FC-4900-BA6B-4837985B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E6922-848D-422D-BAC9-7453969D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B25F1-1DC9-4168-9141-4F29F240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EBF-E11A-45A7-86C1-95A88953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DE736-5541-4245-9854-A0EA25A7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BE849-2DA0-46DD-84ED-AD976AE8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DFFE5-0A67-49BE-9BEF-53B0AD1A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1122E-9509-4754-858E-F5FE3752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FFB16-1225-4C84-8C66-9B8A13B5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355A7-B4D4-41A3-8034-FD64D348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E913D-0FFD-4DE9-AEDA-30BAF44E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127F8-01AF-4D04-986A-3923A991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B7406-DF98-4AF6-96DB-67E719D9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5301D-066D-41F5-AEF4-46E6E967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B441-11BD-4AB8-A10D-DEAD73F6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62EAD-7AF3-4DA4-9CED-3FD2F4F3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C427F-C462-4CDA-AC85-594FCBAA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A39A5-1774-4B86-81C2-C5E11A69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F0FE9-ADC7-492C-A8FB-A1207FAB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B1D1D-B2B3-4E31-8398-AF77D3B0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78C2A-140D-4AC9-BAED-EB4D9C75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F4258-C386-4156-AE17-3790E518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33AEA-FE47-4538-A276-DC23A7DD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F6114-4547-4E6D-89C2-3B868C33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E7961-24F3-4741-83EC-2D260D7B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955F-FDFA-4A17-B815-60055459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09918-6866-4F52-A90B-1AD91989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1505F-1CA7-4693-9CF4-F9358CBD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BF458-B54F-4777-A805-2B1D9EEE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2CCCF-9CCC-4F37-86D0-3E04AEE0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3F5ED-3309-4025-B286-3CBFE129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7970F1-4EFF-4021-A390-E69B55B1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55408D-A389-421F-BFA6-E40138F8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28FF9F-A8E5-434E-B31B-F31E89B3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70AFA2-8472-4CA9-A019-3730F1A4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D8786F5-DA91-4B4A-BDF7-EADF5B11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EB6B-2FDB-491D-8177-FD9822ED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4D8D5A-10A9-472C-98D8-A356E209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9E7681-2E86-48CE-9808-2AC65EFD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00719E-4DF5-4D20-95C7-1F9DCA95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7ECFF6-91D5-4265-83CE-DA962958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7DAAFF-B825-4A61-8CAB-C96B46A1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21A4B5-A3A7-4DBB-A04B-5E461295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5316899-3C43-4A63-8DE1-1DA6DFBA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00D0EB-275E-4F3A-A7CC-0E93DA40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957F1B-9328-45BD-A3E1-86151B7D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AB8813-CC9D-4A2D-A7F1-8DF378CD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0B5A-600F-4E4E-B71A-8B0C0DC3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2A9A52-D223-454E-BED6-23C1FA6A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6A97BC6-EB63-47B3-8CA7-82228FF7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8C6D5A-BBB5-480B-B75F-DBAB0F92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F68911-C27E-4090-9F3E-AC1B045B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7C8F63-B91C-4CA6-AF8F-4AD7A468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99100E0-D96D-42E1-9E4A-CD5CAF69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BA20B8-4917-4EF7-A275-E42C7147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BED1FC-C0FE-4AF5-B2B2-FFF2E784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64378E7-EBCF-43A8-9A4F-311E82AE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C289CB-50A0-4452-9C16-A52185D1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E80C-4935-4E33-8125-C694DCB7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AD493-A765-4AA0-8ADC-A05DE8EB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A1187B-30AD-4A1F-95B4-D21C9335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4562B7-5E30-441F-AE72-0EB12536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CE95F1-9E2C-44E6-BCCC-1B1F2DC3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3E2688-4DEC-41EC-AE79-0EADC617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46DEB3-AA57-4518-91DD-EAD3F9B8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BC24B-6C32-435A-A96D-C80ED649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10A186-6597-4470-86C5-45FBF1B3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5633F8-7442-42BC-A611-4A7889E5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30173-F8CA-4718-B651-40F4CC9B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703A-DE3E-4588-82DA-5D058819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B1A14D-3A60-41E0-B63B-AB36F6C6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2B55360-E4B5-4211-8494-77A1822D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5F904A6-1C93-440F-B5C0-DF775492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A860C25-84C4-4546-B9D7-4345DEBB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ABD1F3-F8C9-42AE-8B25-9D48A642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FD05150-1907-487A-8D6B-3C4E9CA9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DFEB69-E325-4489-92A7-997E8060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1740AB1-7184-4B25-A104-77613898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FEF63B9-00DF-4C65-826F-F0E82BB9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B28FF0-FF5A-4229-9BA9-4CA91A9E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40E4-138B-4C7D-8590-01A9B6B7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876A82-D6F1-4972-839E-EF436367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B5150D-F63B-4656-AF11-3B0ECC58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7164789-C3B3-4116-AB12-053B733F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FC0EBB-4229-4EC2-B00C-B58AF0F3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F317A3-8C91-4CA8-A38B-D98837F4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28072-CF88-4183-85C8-00D04E1B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17B85-94C1-40CD-AE61-216F9E7E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F19BE4-A23D-4F05-A18E-67C636F7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190AD4-2CFE-474A-B5C4-BBC3D5BA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EAFFB4-A159-48D8-9D7F-92183E10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596-44FF-4233-8F31-F1CCA2B5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3DFF-3C38-4DD4-8653-2E8BF6AB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2F114C-CE8A-43CB-A7F2-A06FD075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4EA605-C7E8-4468-9376-CC81611B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B62A1C-0DE8-44B5-B5E3-C5E87814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E0159B-AE74-473D-89B8-FB85A64D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7635F-4C6E-4F4E-87A6-7FCDD22D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0BF4C-5B3B-4DB9-B4CC-E79FD284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67FB16-BBE8-41A1-A614-C19A6696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A3D377-B44C-4DFA-9C38-84BFE9B0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949EC2-DEB4-4D49-88B9-1094883A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070D0B-20C7-40DC-BC1F-E7119E9F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1930-B52A-4179-9043-4B649F2E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B7DFDA-2702-4783-9F3F-C6659EFB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DCA8A-B19D-46F0-A2AC-63FA91AA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3B7E7F-E130-4C01-A01B-6EC50B9F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3B30F9-78F9-4AC2-9F6D-08CEAF59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961080-7450-46C3-9D99-D21AEBAF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625BFC-3FA7-43A1-8243-ADFFE2D1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8E6E8-DFE2-49D2-8AB1-30FD65FC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7DBC8B-B2DD-4B8B-899E-74EE2C21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8B6E73-E526-4BAF-91B7-976C8313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82B638-615A-480F-A4A9-5BB1E34E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F68E-9908-45C8-83A7-3325252D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63BA5A-F772-42C6-B1B2-14E8ED69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856FFD-7992-419E-985D-70AD95E3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E4F5C7-D1EE-4FC0-834B-CA2FF0FD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961412-FE4B-44AC-9810-62D6D638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C5574B-0B34-4C18-AA58-2DD7D7C0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77CA21-FC43-433E-A854-35FC628D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0A7694-B339-4F7A-AF01-80A61F34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792EFA-E5E9-4B89-903E-D81FC765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854FBE-9805-4124-94CF-E0B2D00F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3D721A-7500-4206-B37B-4AFF8752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60E4-47B3-4C71-A7A6-9E603FAE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22F42-98A4-4668-9B18-9AA537E2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C1ED4E-BB88-4F82-B2B3-6A591FFC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2ED751-AFE0-47C2-BC46-2C7CF2EE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86D9BA-9467-46E9-A1AB-CAFD945E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C98E9F-2C3B-4F7A-A9EE-C7924820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476247-90F7-4482-BB05-8065103B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8AFFE3-F3FA-4956-83B7-88048342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210A7E-C47A-4BE3-9548-9D3ABAFF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6636AD-805A-4A67-999D-31EBB2D3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87C9B7-64F7-4AD2-9FF3-1BA009C8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DA49-ED0B-4222-99AF-03708F0A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5F1500-5E5D-47FD-A2EE-6C94E765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8E3862-78F5-4AB4-8A9C-2202EDDB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AF2828-8B4F-453C-A617-71611B7F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E6326E-6261-4492-BB96-C6220C2D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FC8AD5-CAB1-4396-955F-A192A720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D9D9C5-7764-4ABB-BC9D-70869BB4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DB562C-F225-460F-B540-95BF1C3C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BDEDE9-5ADE-4698-8F6C-CE3A2809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F0984E-2567-47D2-B298-C6A3EBE4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CC28AC-0640-45D3-89C8-3D9CCDE0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419DE-06D7-4FE2-934A-6DBD9BA0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DF8EEB-E704-480B-968B-9582123D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0CEB88-205B-4FF0-BAFB-2C6FF334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366795-C63E-4089-8D82-DD951B28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EB7E21-A62E-4BF8-AE6A-5FBE7219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448B6F-9EE8-4F99-A487-91B70EAB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5DB2C7-FA98-491F-A988-7E2AA40F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F6FE02-6A0D-4E1A-BB5B-322BD54D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ADCC95-D08D-4D1A-AF1F-A23E3D6D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C4ACFC-F384-4BCB-9CAF-CCCD59A5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79FD3F-FDB4-42D4-A6DD-60E7CD9D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5F8CF-DF06-466D-AE4C-852CAE19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9C0CB5-F6E3-4B79-AA79-6381E52B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600DB1-9ED3-4DEE-A127-49F47012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9EBA73-2C0B-4161-8419-130DBF62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960DA6-0BB1-4545-B935-137B29AF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540FAE-DDC4-4454-B8A2-AC1A8B23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BBA09D-12E5-41A5-8722-64360048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F2319E-49AC-46AF-A1A0-5AE941AF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7A2BC3-5613-487A-A7E4-89B91097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6C8C16-7B18-4008-8B56-D2E9448D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ACDD45-5C3A-4F43-B019-43AFF9FC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96AB-B49E-4938-90A3-5B80B27D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8EC7BC-BE63-4EFC-AFB2-FB08BAFB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7A0DE1-24D9-47AA-AFF3-76438850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36AA03-EB64-41A6-840E-F75288A4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126E44-1E52-4AB3-9477-65DAB813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A02353-6E92-44C1-BFAD-180579B2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D11C23-8432-4828-873F-0A743AEB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1832FD-8BF2-43C4-83E0-511BBAC2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2546A8-7F46-46A6-8F39-E599A1F7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A7248D-2EA6-41C8-A634-F943AFFF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2EFE90-3B82-4C56-A0DF-F20E50D8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398E2-6E7F-4343-80CD-6B382196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5953C0-55A5-42F4-8B49-74748E44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391262-E5A4-4CF1-A8C7-D6E97445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0BD957-ED36-4F8A-B517-E644293A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9ABBF5-C6A4-4AE0-9360-6C0A0C2F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6B4943-A6FB-4696-987D-C5E3E5A4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0EBBF7-3944-42CD-A9F8-64D83696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2A7C79-F435-485F-9007-FDE9CFCA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D737EF-BAC4-4E4B-B9F1-6C16F763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5C1E46-D331-47F3-8C36-EC9F4D5B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C4C23F-CB43-4E4D-A014-AE9D2F14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5FC8F-E15D-455C-BE38-54B48030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02776C-8C1F-45F0-8520-3CA20A70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679969-6808-4E47-9492-CD339762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FAAF67-EB6A-4151-A9FC-1A7BC278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C40EA7-E3E9-4B59-8A94-3ADAC89F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131161-BFE5-4D98-B418-20BD76DE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9C215D-D5EA-43B0-8EF3-32B50687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96C789-8500-402B-A451-9B5106F4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F456F4-05C8-4B59-BB3C-77C92D43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A333A6-88DF-4ECB-9412-A945848F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5F3B02-17CF-4C0B-B7F1-B097DC20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59BF-AA88-4E91-AF0B-2C016E20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F0274-332E-4AD2-B4B1-E57D06A3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8B26E5-01C1-49CD-850E-E6EF8BC9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087C41-B1B1-4930-B215-9575F122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F8690D-0C3F-40D3-A7F4-1BBBF4A0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C4D9DE-2578-47F7-B675-4C5D96A8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A9C0B0-0EDE-4366-ADA2-868BC5C0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01E987-EB3B-4BB2-B295-062CB3EC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1DFFB0-DC2E-4EE5-A57E-47125C3C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70C8F6-F1B2-4EA9-B546-AF08FB28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1B6BB1-9E82-4B03-9481-6104A729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D99A74-6729-42B2-92C7-558785E8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DEF20-A98E-4302-A04C-F8CC25DA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2E41D7-9761-46D8-AAFD-46181475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7DA057-8E16-4C61-A636-D90F2FD1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86E882-2686-485C-8590-CF09991B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378E25-0592-48E1-9E04-2F304B01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0195A9-281A-4A49-A670-A997A12C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3F50BE-640A-45DA-A9CB-ECA640F3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7428FB-4D49-4D6B-B180-A2EAA746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BD439D-5037-4F02-A6C0-C530A407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11152F-E378-4132-8531-7FF14447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E51AC0-ECBE-4AE5-ABB5-35DD3BD3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F6B43-BCDD-4B5A-B146-20E4C301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5AE02C-F5E2-4D38-9489-5C55B098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CCEE94-9B42-4947-A893-8D9E3835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CDFA26-9EE1-4012-B563-733DEF17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78E9FC-99F6-4658-95E0-6BB7EB5D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B3CEA9-14AD-4552-898A-5443BA9D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BD54-4BA3-4700-838C-5C56D37E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6EF2E-7315-4AD5-96FC-FBC8E24B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01144-3BFD-497E-A2AE-2F46C60F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758EC-3563-4789-8298-FC7021A1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D180F-3EFB-4A33-A9E2-47EA0B61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35DF5-F9DF-4CE5-A9FC-50078D1C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53FA4-E672-42DD-AC0E-D92128DA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A9D3-9CB1-4C1C-9222-3D5D9161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992B9-963D-4790-9BE9-B2E5109A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910C8-56E1-42F8-A60F-24C1C992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C2389-E093-4E1B-9435-E243D020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8C28E-4ED9-4659-A4C2-50E9FA63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F7F5E-E65B-43D6-8A07-8A718B7D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FD5E7-5352-43DA-BC40-5A66340E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4388A-282D-438E-93E8-3715A0A8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46BAE-74E4-4A37-A698-B7AB65CF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46E83-770D-4318-9559-220C2444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993D5-488F-4E5B-BDF1-658DA294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AE0-2BAA-49CD-87BC-7A846BC7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90F99-0062-42D1-A9A4-89CA2094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DE13E-755A-4DF0-8146-87BE2266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E25DF-2892-4BFE-973A-0E529F29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16888-182F-40AC-B1A6-008C953C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55C1E-65FA-4E8C-9DBE-A522C302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5125F-3D74-490D-97A6-AF32A9ED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E062A-1931-469A-83B3-A0CB3B72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FABBC-5355-4FFB-90B8-D4202801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856A7-EDEA-468E-87C1-5C773BB4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12657-A82F-4E4A-8ACB-3975C6FA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5A8-3C64-44FB-BFFF-C74A5B50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90D9C-1085-477F-A4DA-63B3052A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E6FA6-F051-4C92-8078-BA2A0579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9A8C7-3992-482F-9363-285B7CAA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3588F-C4FC-4895-8B5C-0C7766ED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D57A0-4520-4033-9284-951EFBDB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3BEF5-9E86-4C8C-A208-7E610681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21D45-7317-41F8-9B92-65967B82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DE4F6-4015-437A-B8A8-3279B1E1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B13AA-51D3-4260-BBF4-F9C1EF1B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34A5D-B19A-4CB7-A3EF-148DD029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C32B-F74A-450F-8ED5-D251B859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15198-B13F-417A-831E-EFFD4B00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55395-5690-47A4-AACD-34ACA116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923DD-70D1-4D34-8F75-092C4121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49D53-8372-452F-8BEC-1007C600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A7DB6-B8A0-4949-959F-212E5431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16F3F-24C4-4D80-9F5B-1EB4484D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B625D-7940-43DD-8C41-9801946C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44C19-0410-4715-9B31-06986A36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6A93F-2AD4-484B-9F67-D5D5B098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DED60-90B6-467B-98E5-E3F23208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A00-19D7-4952-9E63-9FF1AB15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BF49F-2569-42E0-BB7D-887B9377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C8BC1-A397-4C0D-BCE1-DC90848C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DAF17-E481-4104-962F-88ADD283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185CE-A4D1-4108-9FD5-2AA11656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2A438-87E7-4468-98B5-E8B5E471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188F7-2A7F-4028-A6CE-B9A1C5FD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2406E-0175-440F-9294-0FF0C219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4AF2E-C182-489F-8153-11682BC3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E7E07-7268-401A-A6C1-04F3CCCC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940B6-8AF7-424F-AFEB-C825E1A8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91D-2A93-4F5E-9469-B046BBE5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D6B28-968F-4F76-908A-38F04690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11DB6-CFB0-411A-8F81-56EC1714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57A1E-6683-4004-B94D-6B25175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917FC-9F36-4822-BDF2-2F0AA8BF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5BD81-B33B-4CAC-9EF3-122D23AD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32591-BFE7-426C-B19A-CE433076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A5BA4-C371-4452-AFDF-F4C96DF4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75875-428C-449C-B481-D94A4CBD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DDDA6-EBF5-4862-B351-2DA55438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395E5-536B-42EA-8320-875B437A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175A-5663-4880-9637-BBADF09825E5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9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1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2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3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5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6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7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8E2B-A3F5-40D4-8FAB-2097D338F5C2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7DE9-18B2-4486-8EA0-4FE98FFF0DD0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1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2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3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5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0454-EA22-47F0-97F9-7FAD192F90F8}" type="slidenum">
              <a:rPr b="0" lang="en-A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8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9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0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1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2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3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4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5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6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7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sldNum" idx="37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D5BD-2285-4C73-99D6-CFEA8CC68264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ftr" idx="39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1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2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3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4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5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6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7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8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9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Num" idx="4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CDD4-8B87-43F0-BDF7-69B6B3BB97DB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dt" idx="41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ftr" idx="42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4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4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4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437F-11AE-4C41-9798-85741A49336B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2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3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4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5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6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7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8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9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46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BE65-72C8-4F7C-8025-133B8AD6EEFA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4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4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2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886F-C320-4F2C-86A7-F8F4CCF3769F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5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8B3A-1374-4BE6-828A-F8C9E6554F58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5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5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5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DEFF-A5D1-4D24-AE48-EC982A4E0368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F2BE-1914-4100-B6E5-6A98552138A9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9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5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60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62D8-03FD-43E5-9A03-59431DA6E7B8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6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6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6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9B19-FF35-4DFA-912A-6C809D7C7227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3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4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5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6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7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8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9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0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6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6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F4E5-A74A-4FE6-962D-A7F98DBAB735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5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6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8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9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0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1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2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3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4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5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6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7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8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9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0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1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2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3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4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5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6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7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8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9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0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1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6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6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10FC-A4EC-4D94-BA2A-3C47ECCD1792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 type="dt" idx="7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 type="ftr" idx="7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28C9-CBB2-455C-A936-2D9D9A436B4F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5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6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7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8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9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0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1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2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3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7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7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7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52C6-7385-41C7-8B57-11ED87170B18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7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7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7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7D85-F1B0-44ED-AD47-17015781F762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5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6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257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1258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59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60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261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1262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63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64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265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1266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67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68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7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8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8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9E1A-36CA-4ECB-BD65-F6FAABBF3D0C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A79E-8211-4EF7-BD16-3F38C434067F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B19A-AE5F-4D19-A296-AF7477F1D1EE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DD19-D23A-4089-B2A8-76C3FC1CB59E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1798-6053-4064-A0B2-368973B64550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689B-6A36-4929-B2AC-AB14D01B1078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6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0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1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3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5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2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dt" idx="2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E44C-A910-4BF9-8063-CED00FAC0ED0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4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5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6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5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5CF8-1C56-41DC-AEEF-979790B86EA4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7" name="Title 1" descr=""/>
          <p:cNvPicPr/>
          <p:nvPr/>
        </p:nvPicPr>
        <p:blipFill>
          <a:blip r:embed="rId1"/>
          <a:stretch/>
        </p:blipFill>
        <p:spPr>
          <a:xfrm>
            <a:off x="212760" y="1365120"/>
            <a:ext cx="8980560" cy="2036880"/>
          </a:xfrm>
          <a:prstGeom prst="rect">
            <a:avLst/>
          </a:prstGeom>
          <a:ln w="0">
            <a:noFill/>
          </a:ln>
        </p:spPr>
      </p:pic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13572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anges of Reproductive Strateg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A Range of reproductiv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n the animal kingdom, reproductive strategies can differ markedly in terms of several major features including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Content Placeholder 2"/>
          <p:cNvSpPr/>
          <p:nvPr/>
        </p:nvSpPr>
        <p:spPr>
          <a:xfrm>
            <a:off x="4529160" y="285840"/>
            <a:ext cx="461484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Type of reproduc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sexu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exual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2" name="Content Placeholder 2"/>
          <p:cNvSpPr/>
          <p:nvPr/>
        </p:nvSpPr>
        <p:spPr>
          <a:xfrm>
            <a:off x="571680" y="2143080"/>
            <a:ext cx="461484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Arial"/>
              </a:rPr>
              <a:t>Gender system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Sexes exist as separate male and femal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3" name="Content Placeholder 2"/>
          <p:cNvSpPr/>
          <p:nvPr/>
        </p:nvSpPr>
        <p:spPr>
          <a:xfrm>
            <a:off x="4529160" y="4143240"/>
            <a:ext cx="461484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b0f0"/>
                </a:solidFill>
                <a:latin typeface="Arial"/>
              </a:rPr>
              <a:t>Mode of fertilisa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xtern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tern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Content Placeholder 2"/>
          <p:cNvSpPr/>
          <p:nvPr/>
        </p:nvSpPr>
        <p:spPr>
          <a:xfrm>
            <a:off x="285840" y="357120"/>
            <a:ext cx="461484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ff00"/>
                </a:solidFill>
                <a:latin typeface="Corbel"/>
              </a:rPr>
              <a:t>Mating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Corbel"/>
              </a:rPr>
              <a:t>Single pair matings: monogamy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Corbel"/>
              </a:rPr>
              <a:t>Multiple matings of individuals (polygamy)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Corbel"/>
              </a:rPr>
              <a:t>promiscuity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4357440" y="1356840"/>
            <a:ext cx="461484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eb80a"/>
                </a:solidFill>
                <a:latin typeface="Corbel"/>
              </a:rPr>
              <a:t>Numbers of offspr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r- select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K-select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6" name="Content Placeholder 2"/>
          <p:cNvSpPr/>
          <p:nvPr/>
        </p:nvSpPr>
        <p:spPr>
          <a:xfrm>
            <a:off x="4286160" y="4286160"/>
            <a:ext cx="461484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7" name="Content Placeholder 2"/>
          <p:cNvSpPr/>
          <p:nvPr/>
        </p:nvSpPr>
        <p:spPr>
          <a:xfrm>
            <a:off x="4529160" y="4643280"/>
            <a:ext cx="461484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157a"/>
                </a:solidFill>
                <a:latin typeface="Corbel"/>
              </a:rPr>
              <a:t>Place of development and source of nutrition for the embryo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Oviparity – egg laying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Viviparity – giving birth to live young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8" name="Content Placeholder 2"/>
          <p:cNvSpPr/>
          <p:nvPr/>
        </p:nvSpPr>
        <p:spPr>
          <a:xfrm>
            <a:off x="0" y="2928960"/>
            <a:ext cx="461484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fe8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fe8d6"/>
                </a:solidFill>
                <a:latin typeface="Corbel"/>
              </a:rPr>
              <a:t>Investment of parental care into offspring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ffffff"/>
                </a:solidFill>
                <a:latin typeface="Corbel"/>
              </a:rPr>
              <a:t>Nil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ffffff"/>
                </a:solidFill>
                <a:latin typeface="Corbel"/>
              </a:rPr>
              <a:t>Care by one or both parent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ffffff"/>
                </a:solidFill>
                <a:latin typeface="Corbel"/>
              </a:rPr>
              <a:t>Care by extended family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8:32:27Z</dcterms:created>
  <dc:creator>Lyn Clarkson</dc:creator>
  <dc:description/>
  <dc:language>en-US</dc:language>
  <cp:lastModifiedBy>Lyn Clarkson</cp:lastModifiedBy>
  <dcterms:modified xsi:type="dcterms:W3CDTF">2007-09-12T00:00:41Z</dcterms:modified>
  <cp:revision>3</cp:revision>
  <dc:subject/>
  <dc:title>REPRODUCTIVE STRATEGIES FOR SURVIVAL</dc:title>
</cp:coreProperties>
</file>